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9.png" ContentType="image/png"/>
  <Override PartName="/ppt/media/image32.wmf" ContentType="image/x-wmf"/>
  <Override PartName="/ppt/media/image6.png" ContentType="image/png"/>
  <Override PartName="/ppt/media/image3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43.wmf" ContentType="image/x-wmf"/>
  <Override PartName="/ppt/media/image53.png" ContentType="image/png"/>
  <Override PartName="/ppt/media/image48.gif" ContentType="image/gif"/>
  <Override PartName="/ppt/media/image44.wmf" ContentType="image/x-wmf"/>
  <Override PartName="/ppt/media/image45.png" ContentType="image/png"/>
  <Override PartName="/ppt/media/image33.wmf" ContentType="image/x-wmf"/>
  <Override PartName="/ppt/media/image50.png" ContentType="image/png"/>
  <Override PartName="/ppt/media/image46.png" ContentType="image/png"/>
  <Override PartName="/ppt/media/image40.png" ContentType="image/png"/>
  <Override PartName="/ppt/media/image38.wmf" ContentType="image/x-wmf"/>
  <Override PartName="/ppt/media/image55.png" ContentType="image/png"/>
  <Override PartName="/ppt/media/image41.png" ContentType="image/png"/>
  <Override PartName="/ppt/media/image54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17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6000" y="6324480"/>
            <a:ext cx="102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XeBusiness Lt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-157320"/>
            <a:ext cx="9144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dddd"/>
                </a:solidFill>
                <a:latin typeface="Arial"/>
              </a:rPr>
              <a:t>Gaining competitive advantage through information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63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package" Target="../embeddings/oleObject2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3.docx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1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package" Target="../embeddings/oleObject2.docx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9.png"/><Relationship Id="rId16" Type="http://schemas.openxmlformats.org/officeDocument/2006/relationships/package" Target="../embeddings/oleObject4.docx"/><Relationship Id="rId17" Type="http://schemas.openxmlformats.org/officeDocument/2006/relationships/image" Target="../media/image26.wmf"/><Relationship Id="rId1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31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32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13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33.wmf"/><Relationship Id="rId15" Type="http://schemas.openxmlformats.org/officeDocument/2006/relationships/image" Target="../media/image34.jpeg"/><Relationship Id="rId16" Type="http://schemas.openxmlformats.org/officeDocument/2006/relationships/image" Target="../media/image25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13.wmf"/><Relationship Id="rId7" Type="http://schemas.openxmlformats.org/officeDocument/2006/relationships/image" Target="../media/image8.png"/><Relationship Id="rId8" Type="http://schemas.openxmlformats.org/officeDocument/2006/relationships/image" Target="../media/image30.png"/><Relationship Id="rId9" Type="http://schemas.openxmlformats.org/officeDocument/2006/relationships/package" Target="../embeddings/oleObject3.docx"/><Relationship Id="rId10" Type="http://schemas.openxmlformats.org/officeDocument/2006/relationships/image" Target="../media/image12.wmf"/><Relationship Id="rId11" Type="http://schemas.openxmlformats.org/officeDocument/2006/relationships/package" Target="../embeddings/oleObject4.docx"/><Relationship Id="rId12" Type="http://schemas.openxmlformats.org/officeDocument/2006/relationships/image" Target="../media/image24.wmf"/><Relationship Id="rId13" Type="http://schemas.openxmlformats.org/officeDocument/2006/relationships/image" Target="../media/image37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ww.xebusines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should your IT systems be hel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e and Collab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ss (Relevant!)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e Trading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tain and Develop Existing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n New Custo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2485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br>
              <a:rPr sz="2700"/>
            </a:b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I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e Your Company’s Front &amp; Back Office Computer Systems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eg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sponsive/fast to react, easy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llabo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asy to ma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28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PON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Lead Tim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rter Your Lea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Your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Costs By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*  THE MANUFACTURING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33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2743200"/>
            <a:ext cx="45720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41911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4  :  2  :  20    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Q’s  -  Evaluate &amp; Depl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the software apparel specialist and specific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 customised reports be obtained to suit my information needs 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it possible to create customised reports myself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the system upgradable and scaleable - more users, more workstations, networked etc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there standard interfaces with other systems - Accounts,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DI/ecommerce, spreadsheets etc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Q’s  -  Evaluate &amp; Depl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software integra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efault options available so that frequent operations can be speeded up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re a tool-kit available to enable fast, easy and low cost customis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kind of installation support and on-going support and maintenance is availab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4343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219320"/>
            <a:ext cx="85341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aborate, Communicate and Exchange Information internally and externally (customers and suppliers) throu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eMail – messaging, reports, enquiries, documents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sheets, images, alerts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mmerce – On-line – Web Shop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Data Interchange (EDI) – document exch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f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86600" y="4267080"/>
            <a:ext cx="1473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Operational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hieve accurate and timely information to support 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Operating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ustomer Service  -  right product, right place, righ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namic Trade’  -  customised response to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0" r="0" b="6929"/>
          <a:stretch/>
        </p:blipFill>
        <p:spPr>
          <a:xfrm>
            <a:off x="6324480" y="1828800"/>
            <a:ext cx="217188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33720" y="5562720"/>
            <a:ext cx="1789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orld's largest tr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275-foot (84-metre) giant sequo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usiness case for Information Technology</a:t>
            </a:r>
            <a:br>
              <a:rPr sz="4000"/>
            </a:br>
            <a:br>
              <a:rPr sz="4000"/>
            </a:br>
            <a:r>
              <a:rPr b="1" lang="en-GB" sz="2000" spc="-1" strike="noStrike">
                <a:solidFill>
                  <a:srgbClr val="000000"/>
                </a:solidFill>
                <a:latin typeface="Bookman Old Style"/>
              </a:rPr>
              <a:t>”Helping apparel and textile companies today do more with less and do it faster and more effectively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13999"/>
          <a:stretch/>
        </p:blipFill>
        <p:spPr>
          <a:xfrm>
            <a:off x="3505320" y="4495680"/>
            <a:ext cx="2133360" cy="137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304920"/>
            <a:ext cx="7391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siness Benefits of Goo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duce Operating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inished Stock Inven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aw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ixed Ass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ministr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vertim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sh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verall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mprove Price Competit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etter Sales Marg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siness Benefits of Goo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Improve Custom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elivery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der to Delivery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apid Response to Market Changes/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fter Sale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verall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crease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duce Lost Ord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28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Retai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ing Consumer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mmedi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w Technologies To Support Consumer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33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onclusion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4920"/>
            <a:ext cx="7391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905120"/>
            <a:ext cx="792504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makes a strategic competitive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hort ROI/P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Do it early and do it now, later may be too late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we are about</a:t>
            </a:r>
            <a:br>
              <a:rPr sz="4000"/>
            </a:br>
            <a:br>
              <a:rPr sz="40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eBusiness supplies computer based business systems for quick response and cost reduction - simply and economically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ail : info@xebusiness.com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ww.xebusiness.co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0880"/>
            <a:ext cx="7315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4008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br>
              <a:rPr sz="2700"/>
            </a:b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eBusiness Company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ed in December 1999 following an MBO from   Kewill Systems 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iously traded as Kewill-Xetal, a leading computer software vendor to Apparel and Soft Goods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range of Supply Chain Solutions with a development pedigree going back 10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ed client base of Apparel &amp; Soft Goods Supplier Companies trading with the major ret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XeBusiness  -  A Long Term IT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ient Base generates annual T/O of £2bn in the Apparel &amp; Textile Se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sistently profitable from company formation in December 1999 following MBO from Kewill Systems Pl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sh Generative  -  no overdraft, no debt, no gearing.  Year on year free cash flow increases since 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 owned subsidiary of global fashion and sportswear brand  -  Henri-Lloy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0000"/>
                </a:solidFill>
                <a:latin typeface="Times New Roman"/>
              </a:rPr>
              <a:t>There are no short cuts to building a valu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0000"/>
                </a:solidFill>
                <a:latin typeface="Times New Roman"/>
              </a:rPr>
              <a:t>IT bus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8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4495680"/>
            <a:ext cx="1295280" cy="2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2362320" y="4343400"/>
          <a:ext cx="91440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343400"/>
                    <a:ext cx="914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581280" y="4572000"/>
            <a:ext cx="1676520" cy="227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8001000" y="4267080"/>
            <a:ext cx="41580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6477120" y="4419720"/>
          <a:ext cx="1295280" cy="41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77120" y="4419720"/>
                    <a:ext cx="12952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562720" y="4343400"/>
          <a:ext cx="609480" cy="603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4343400"/>
                    <a:ext cx="6094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e-ERP - Softwar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oftware is specifically built for the Appar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Xe-ERP cov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ment Sourcing (CMT and Factored)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stribu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999" t="24671" r="24002" b="22000"/>
          <a:stretch/>
        </p:blipFill>
        <p:spPr>
          <a:xfrm>
            <a:off x="5105520" y="3276720"/>
            <a:ext cx="3124080" cy="1952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17342" r="4635" b="17140"/>
          <a:stretch/>
        </p:blipFill>
        <p:spPr>
          <a:xfrm>
            <a:off x="5486400" y="388620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11999" t="24671" r="24002" b="22000"/>
          <a:stretch/>
        </p:blipFill>
        <p:spPr>
          <a:xfrm>
            <a:off x="5791320" y="4648320"/>
            <a:ext cx="3124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mple Sector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arel (Own and Other Brand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wear, Hosiery, Ling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ts, Headw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ear, Corporate w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ldren’s Wear, Men’s Wear, Ladies Wear, School W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rtswear, Rainwear, Knitw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Tex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ories – bags, wallets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Party Logistics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eho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57003" t="46670" r="5003" b="16002"/>
          <a:stretch/>
        </p:blipFill>
        <p:spPr>
          <a:xfrm>
            <a:off x="5867280" y="4267080"/>
            <a:ext cx="2895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XeBusiness Global Pres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K based (Manchester) with clients in all parts of the UK and Ire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5240" y="4287960"/>
            <a:ext cx="1753920" cy="1805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39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4480" y="4149720"/>
            <a:ext cx="7442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lients and Business Partners i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astern Europe (Romania, Poland and Slovak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orth Africa/Southern Europe (Egypt, Morocco and Tur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ar East – Malaysia and Viet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1600200" cy="733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3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6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838080"/>
            <a:ext cx="251460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NRI L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C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ENTWOOD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URBERRY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ASTLEBL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TYLE WORK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CB WORK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RY &amp; LI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ONARCH TEXT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RWOOD TEXT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RUIT OF THE L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ENNANT CLOTH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RIA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ERRY CLOT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RYER WORKWEA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.F.D.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YMPHLEX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 LOCKE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ORWICH SEWING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.R. DENNES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IBBETT &amp; BRIT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.J. MARKETING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OINT RETAIL LOGISTICS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 M WILLI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OOKSON &amp; CLEGG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KAR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EERHUNTE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’NEILLS SPORTS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OURTV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ULT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E CLOTH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HARLON CORPORATE CLOTH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OVERBROOK LTD (ETHIC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IELDING MANUFAC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OSEF CLOTH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230508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2286000"/>
            <a:ext cx="1647720" cy="96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692360" y="5589720"/>
            <a:ext cx="2819160" cy="38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203640" y="1773360"/>
            <a:ext cx="809640" cy="866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286000" y="2819520"/>
            <a:ext cx="1619280" cy="695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611280" y="4797360"/>
            <a:ext cx="1752480" cy="441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419720" y="2057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4419720" y="1600200"/>
            <a:ext cx="18288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609480" y="2590920"/>
          <a:ext cx="1219320" cy="11430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2590920"/>
                    <a:ext cx="1219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5334120" y="3352680"/>
            <a:ext cx="923760" cy="133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85800" y="4038480"/>
          <a:ext cx="1909800" cy="6112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5800" y="4038480"/>
                    <a:ext cx="19098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876920" y="4876920"/>
          <a:ext cx="1479600" cy="1000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76920" y="4876920"/>
                    <a:ext cx="14796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843280" y="4724280"/>
          <a:ext cx="1460520" cy="49392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43280" y="4724280"/>
                    <a:ext cx="14605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061000" y="9907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lient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3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1066680"/>
            <a:ext cx="2667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OKSON &amp; CLEG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PORATE WARD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E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YER WORKWEA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.R. DENNE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INT RETAIL LOGISTICS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KAR GROU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NARCH TEXTILES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.M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T APPAR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AYBOU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.F.D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YLE WORKWEA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BBETT &amp; B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Y &amp; LI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1285920" cy="1133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64808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916360" y="5373720"/>
            <a:ext cx="809640" cy="866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19720" y="2057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1981440" cy="870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04920" y="3124080"/>
            <a:ext cx="1904760" cy="628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57200" y="5486400"/>
            <a:ext cx="194328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28600" y="4659480"/>
          <a:ext cx="2124000" cy="6746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659480"/>
                    <a:ext cx="2124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500720" y="3500280"/>
          <a:ext cx="1600200" cy="716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3500280"/>
                    <a:ext cx="16002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859280" y="4365720"/>
          <a:ext cx="971640" cy="9619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9280" y="4365720"/>
                    <a:ext cx="971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067280" y="5661000"/>
          <a:ext cx="1838160" cy="6001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5661000"/>
                    <a:ext cx="1838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457200" y="1523880"/>
            <a:ext cx="866880" cy="1314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43000" y="990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wear client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6"/>
          <a:stretch/>
        </p:blipFill>
        <p:spPr>
          <a:xfrm>
            <a:off x="3581280" y="1371600"/>
            <a:ext cx="924120" cy="133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724280" y="1447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2556000" y="4149720"/>
            <a:ext cx="1790640" cy="981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8"/>
          <a:stretch/>
        </p:blipFill>
        <p:spPr>
          <a:xfrm>
            <a:off x="2411280" y="2997360"/>
            <a:ext cx="219096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54864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3880" y="907920"/>
            <a:ext cx="8610840" cy="78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Big………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be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uit of the L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rling Group (Bentwoo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bbett &amp; B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Medium Size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i-Lloyd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whirst TCCM (Malays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tlebl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the Smaller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CB 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arch Tex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kson &amp; Cleg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137160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6477120" y="1523880"/>
          <a:ext cx="91440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1523880"/>
                    <a:ext cx="914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267080" y="1295280"/>
            <a:ext cx="1676520" cy="22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5181480" y="1981080"/>
          <a:ext cx="609840" cy="603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981080"/>
                    <a:ext cx="6098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4191120" y="3276720"/>
            <a:ext cx="1295280" cy="257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4284720" y="4724280"/>
            <a:ext cx="1295280" cy="4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6300720" y="4724280"/>
          <a:ext cx="1295640" cy="414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4724280"/>
                    <a:ext cx="12956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867280" y="5486400"/>
          <a:ext cx="685800" cy="6429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5486400"/>
                    <a:ext cx="685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5076720" y="3933720"/>
            <a:ext cx="1528920" cy="273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>
            <a:off x="7772400" y="3657600"/>
            <a:ext cx="4158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4920" y="93204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mple User Pro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k Any Retailer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verst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ock - 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     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      Customer Retention and Footfal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33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1600" spc="-1" strike="noStrike">
                <a:solidFill>
                  <a:srgbClr val="dddddd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dddddd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fter the handshake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we’re there to hold your ha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nts from 2002 client surve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 XeB’s Help Desk &amp; Suppor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ustomer support is exce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ways someone there to take a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uick response to mos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lexible response outside normal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ery helpful and knowledge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ways helpful – no complaints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sonal informal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ways manages to get us going again – even at weekend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ways given us excellen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t like it 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8120" y="1523880"/>
          <a:ext cx="167616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167616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2005200" cy="3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28600" y="2971800"/>
          <a:ext cx="2133720" cy="681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971800"/>
                    <a:ext cx="21337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09480" y="4572000"/>
          <a:ext cx="1219320" cy="82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4572000"/>
                    <a:ext cx="12193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315200" y="4191120"/>
            <a:ext cx="9237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eBusiness offer a full range of professional services includ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l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ftware Custom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ftware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lp- Desk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ftware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im I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7001" t="39337" r="64004" b="33157"/>
          <a:stretch/>
        </p:blipFill>
        <p:spPr>
          <a:xfrm>
            <a:off x="4343400" y="2438280"/>
            <a:ext cx="3962520" cy="2819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76440" y="5257800"/>
            <a:ext cx="25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eBusiness Customer care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Xe-ER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pplication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6689" t="24400" r="30639" b="35293"/>
          <a:stretch/>
        </p:blipFill>
        <p:spPr>
          <a:xfrm>
            <a:off x="2819520" y="4267080"/>
            <a:ext cx="3504960" cy="1690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ftware Pedigree – Xe-E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26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wned developed and supported in the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ll source code availability in the UK to enable fast and easy local custo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-going UK development of Xe-ERP to reflect current best practice in CRM, global sourcing, manufacturing and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notified software ‘bugs’/defects are immediately corrected by the XeB team based in the UK with full access to program source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732720" y="1908000"/>
            <a:ext cx="1857240" cy="1503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020000" y="3852720"/>
            <a:ext cx="1801800" cy="1808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57340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XeBusiness – established UK based vendor in full local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of all product development and suppor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ftware Pedigree – Xe-ERP</a:t>
            </a:r>
            <a:br>
              <a:rPr sz="2400"/>
            </a:br>
            <a:br>
              <a:rPr sz="24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Certain competitors are marketing North American owned products via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gents/re-sellers in the 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4920" y="2131560"/>
            <a:ext cx="583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333cc"/>
                </a:solidFill>
                <a:uFillTx/>
                <a:latin typeface="Times New Roman"/>
              </a:rPr>
              <a:t>Downside Risk of Investing in Foreign Owned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o UK biased development as all development driven by US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o access to source code in the UK – customisation therefore done overseas with consequent delays and cost disadvan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ll bug/defect fixing can only be done by developers based overs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sequent delays and increased system down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isk of US owner withdrawal of software from the UK if sales targets no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400" spc="-1" strike="noStrike" u="sng">
                <a:solidFill>
                  <a:srgbClr val="3333cc"/>
                </a:solidFill>
                <a:uFillTx/>
                <a:latin typeface="Times New Roman"/>
              </a:rPr>
              <a:t>impact on support for UK based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84720" y="3151080"/>
            <a:ext cx="2880000" cy="2006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60360" y="5661000"/>
            <a:ext cx="90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XeBusiness – established UK based vendor in full local control of all product development and suppor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les Order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oicing &amp; Invent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Sourcing and Procurement - Fully Factored and C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essio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rehous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rer Packs – Corporate  Wear and Work W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ract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Commerce / EDI 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ion Control/Labour Cost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 Time &amp; Bar Coded T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terials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acity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w Material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Control and Account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360" y="1093680"/>
            <a:ext cx="445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nd to end coverag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ISTRIBUTION / MANUFACTURING / FINANCIA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38680" y="3505320"/>
            <a:ext cx="53053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Xe-ERP – Information R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ing and Enqui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graph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stomised to individual network us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ll Down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ule Driven By Ex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ltiple Print and Distribution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gration with MS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0" r="0" b="12039"/>
          <a:stretch/>
        </p:blipFill>
        <p:spPr>
          <a:xfrm>
            <a:off x="4038480" y="1519200"/>
            <a:ext cx="3124440" cy="2062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rcRect l="0" t="0" r="0" b="12039"/>
          <a:stretch/>
        </p:blipFill>
        <p:spPr>
          <a:xfrm>
            <a:off x="4495680" y="2128680"/>
            <a:ext cx="3124440" cy="2062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rcRect l="0" t="0" r="0" b="12039"/>
          <a:stretch/>
        </p:blipFill>
        <p:spPr>
          <a:xfrm>
            <a:off x="5029200" y="2662200"/>
            <a:ext cx="3124080" cy="2062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rcRect l="0" t="0" r="0" b="12039"/>
          <a:stretch/>
        </p:blipFill>
        <p:spPr>
          <a:xfrm>
            <a:off x="5486400" y="3195720"/>
            <a:ext cx="3124080" cy="2062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67080" y="5638680"/>
            <a:ext cx="443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 addition users can build ‘on the fly’  custom reports and queries using an integrated report wr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54864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990720"/>
            <a:ext cx="8458200" cy="64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bit Report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based functions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P/WMS database integ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/Drag &amp; Drop/WYSIWY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quality printing (variable fonts, styles, embedded im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isting to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xport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2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e-ERP – Internet/Web based Technology Options</a:t>
            </a:r>
            <a:br>
              <a:rPr sz="2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municate and Collaborate with Key Customers and Suppliers to Comp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6346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duce inventories across the supply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ss redundancy risk across the supply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roved quality of service – consumers, retailers and corpora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duced transactional costs – reduced paper tr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516720" y="3689280"/>
            <a:ext cx="24811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12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e-ERP – Internet/Web based Technology Options</a:t>
            </a:r>
            <a:br>
              <a:rPr sz="2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municate and Collaborate with Key Customers and Suppliers to Comp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54040" y="3715920"/>
            <a:ext cx="820728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DI – over the Internet – links to popular PC based EDI pac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uto fax – integrated ability to fax anything anywhere within the application producing th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the Internet/WWW and your web site to exchange information with your customers and 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2565360"/>
            <a:ext cx="590400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cc"/>
                </a:solidFill>
                <a:uFillTx/>
                <a:latin typeface="Arial"/>
              </a:rPr>
              <a:t>The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grated email within applications – send any document (e.g. Purchase Order), enquiry and report as an email attachment to anyone anywhere within the application producing th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586560" y="2662200"/>
            <a:ext cx="17305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ailer Profitability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2 Week Reduction in Inventory  =  Profits up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5% Increase in Customer Retention  =  100% Operating Profit In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20% of value of all retail sales are excess merchand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Merchandise stock-outs are running at 8% -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60% of customers leave a store without buying any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ource :  Harvard Business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upply Chain Must Work H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upply Chain vs. Supply Chain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liers become part of Retailers extended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e-ERP – Internet/Web based Technology Options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cc"/>
                </a:solidFill>
                <a:uFillTx/>
                <a:latin typeface="Times New Roman"/>
              </a:rPr>
              <a:t>Your Customers (Retailers and Corporate Buy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ke information available ab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ree stock and future free stock avail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rders/contracts outsta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bility to call-off stock allocated and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asonal electronic cat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 moving and out of season merchandise pro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cc"/>
                </a:solidFill>
                <a:uFillTx/>
                <a:latin typeface="Times New Roman"/>
              </a:rPr>
              <a:t>Your Suppliers (CMT and/or Fully Factor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ck and Trace pre-production critical path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lace Purchase order/contracts electronically (Email or 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ck and trace purchase orders pla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e-book warehouse delivery after call-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Xe-ERP – facilitating supply chain communication and collaboration for compet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adva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443640" y="1916280"/>
            <a:ext cx="1741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6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-Shop 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up and maintain on-line seasonal product cat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low posting of special offers for slow moving merchand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low customers to visit and browse through the cat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low product orders to be placed (e.g. by style, colour, size and length) using a ‘shopping cart’ mechanism, accepted and an electronic order document sub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yer details captured on order form  -  telephone number, email address, delivery addres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n-line payment made by credit card or switch (World Pay) if not an account custom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rder details automatically captured by the XeB system from electronic order form, validated and processed to fulfil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400800" y="2057400"/>
            <a:ext cx="19810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010280" y="5562720"/>
            <a:ext cx="1828800" cy="652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04920" y="1371600"/>
            <a:ext cx="8534160" cy="40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soft 32 bit Win X technology compli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/Server - Win X Clients, Win 2000 and Win NT server. </a:t>
            </a:r>
            <a:br>
              <a:rPr sz="1400"/>
            </a:b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Area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ll Client and Server and Win Client and Novel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 Client/Linux Server option to be made available </a:t>
            </a:r>
            <a:br>
              <a:rPr sz="1400"/>
            </a:b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 Windows GUI 'Look and Feel', plus integrated access to MS Outlook and Off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developed using 4GL technology for speed and ease of customis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- Functionality available to easily and flexibly import/export data from the applications DB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Enterprise' (large system – ODBC/SQL) version of product for 60+ on-line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553080" y="1905120"/>
            <a:ext cx="533520" cy="666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552240" cy="666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229600" y="327672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80880" y="9144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chnology Platform - Specialist IT Solutions for the Apparel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XeBusiness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ustry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ain Knowledge  -  Probably the most knowledgeable and experienced team in the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rn 32 Bit Softwa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ist, Comprehensive, Scaleable and Built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s  and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range to implement fast and support eff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 set of satisfied customers in th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162920" y="5105520"/>
          <a:ext cx="121896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105520"/>
                    <a:ext cx="12189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6248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ww.xebusines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tail &amp; Retail Supply Chai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l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e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pply Chain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ss Customisa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stomised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ice / Valu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age Inven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w Produc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duce Lead Time 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ment Time to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ick Respons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ght First Tim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33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 uniquely challenging trading environ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an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Compe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ening Product Life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ening Delivery Lea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rom Tradi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B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ck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i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ectiven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ing Custom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ng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24080" y="297180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14800" y="3886200"/>
            <a:ext cx="1523880" cy="1003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914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ly Chai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itive pressures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er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er Over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er Product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er Replenishment Lea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er New Product Development Lea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d Administra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ct Faster To Demand  =  Increase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590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ture Competi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creas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d Value for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duce Costs  -  set-up, down time,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eed/flexibility  -  Quick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e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etitive Advantage to Competitive Neces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3244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br>
              <a:rPr sz="2700"/>
            </a:br>
            <a:r>
              <a:rPr b="0" lang="en-GB" sz="27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13:07:39Z</dcterms:created>
  <dc:creator>Jonathan Rowley</dc:creator>
  <dc:description/>
  <dc:language>en-US</dc:language>
  <cp:lastModifiedBy>Michelle Pearce</cp:lastModifiedBy>
  <cp:lastPrinted>2003-10-20T15:37:49Z</cp:lastPrinted>
  <dcterms:modified xsi:type="dcterms:W3CDTF">2004-12-23T11:41:53Z</dcterms:modified>
  <cp:revision>282</cp:revision>
  <dc:subject>Company and Solution Overview</dc:subject>
  <dc:title>XeBusiness ERP July 2002</dc:title>
</cp:coreProperties>
</file>